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D28-51AF-4FE9-AF1A-67AAC3C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F86-372D-47F5-9075-B2E23F20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E79-8093-42B3-97E6-272CF472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821-93AC-467A-BE05-9051E567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147-822D-4D2F-B7A5-D2F3FB3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A86-4B92-4A79-B56C-AF08027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D1B-6993-41B3-8FBD-9259D0FF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DB6-8ECF-4D02-83B0-B799D9C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5FE-3700-49D7-ABAD-CC5B12B0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6E4-C77C-4503-BD3B-288FC89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CA6-87A3-477C-89B3-9BCAEC0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072-FD26-4759-AC05-D991969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ADA-1DD7-42B4-9F3D-303B7157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etricmanialogo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1:55:08Z</dcterms:modified>
  <cp:revision>11</cp:revision>
  <dc:subject/>
  <dc:title>Slide 1</dc:title>
</cp:coreProperties>
</file>